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1E88-72A3-40A2-B3F9-52597521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A33F-731D-4127-A30D-D0FCF007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7C1A-2A87-44CC-A92D-E580EAEF8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6589-134C-45E9-A4A7-6291F5F09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1FF6-A04C-47F3-8323-2D67A385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8B74-2EC0-4E68-AE59-CF3876BB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2F9F-9644-46E1-8308-66E1F679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3C96-2C82-42A5-B3D0-40EDC8FA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A4EB-AF97-4397-8628-D6C0C1DD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C947-A7B2-4BFC-A5D8-89B3B14F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33DA-43E4-465A-B9EA-0539E115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A8EB-2A35-4AEA-9675-EB164ED5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B277-290E-4CE3-ACC4-358FA30F4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d the perimeter and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33720" y="2743200"/>
            <a:ext cx="29718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63040" y="23986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67440" y="30081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81840" y="2398680"/>
            <a:ext cx="12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met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50040" y="3902040"/>
            <a:ext cx="58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4495680"/>
            <a:ext cx="99072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63760" y="40384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24480" y="4419720"/>
            <a:ext cx="320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12600" y="4319640"/>
            <a:ext cx="12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me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Unit 7: Measure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 Students will find the area of a tri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:  Students will find the area of a triang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inder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a of a rectangle = Length x 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a of a parallelogram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a = base x heigh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= </a:t>
            </a:r>
            <a:r>
              <a:rPr b="0" lang="en-US" sz="3200" spc="-1" strike="noStrike">
                <a:solidFill>
                  <a:srgbClr val="ff66ff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05520" y="3962520"/>
            <a:ext cx="3200400" cy="1828800"/>
          </a:xfrm>
          <a:prstGeom prst="parallelogram">
            <a:avLst>
              <a:gd name="adj" fmla="val 6117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39625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24852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48520" y="4495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2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5867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rea of a triang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752480" y="2743200"/>
          <a:ext cx="391176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743200"/>
                    <a:ext cx="391176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133720" y="4038480"/>
          <a:ext cx="1409760" cy="93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4038480"/>
                    <a:ext cx="140976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5257800" y="3581280"/>
            <a:ext cx="3048120" cy="190512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5181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6292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5638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057400" y="5638680"/>
          <a:ext cx="1981080" cy="81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5638680"/>
                    <a:ext cx="198108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2666880" y="5181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8480" y="152280"/>
            <a:ext cx="800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:  Students will find the area of a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Area of the tri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1.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= 4ft  h= 11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438280" y="2895480"/>
          <a:ext cx="116856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895480"/>
                    <a:ext cx="116856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2565360" y="1371600"/>
          <a:ext cx="914400" cy="37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65360" y="1371600"/>
                    <a:ext cx="9144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2209680" y="3962520"/>
          <a:ext cx="1600200" cy="93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3962520"/>
                    <a:ext cx="160020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2362320" y="4952880"/>
          <a:ext cx="1168200" cy="939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4952880"/>
                    <a:ext cx="116820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2286000" y="6019920"/>
          <a:ext cx="1574640" cy="50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0" y="6019920"/>
                    <a:ext cx="1574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680760" y="228600"/>
            <a:ext cx="800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:  Students will find the area of a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Area of the triangl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2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2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.5c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4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5y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8y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2k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4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8480" y="228600"/>
            <a:ext cx="800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:  Students will find the area of a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area of the tri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2895480"/>
            <a:ext cx="1981080" cy="1371600"/>
          </a:xfrm>
          <a:prstGeom prst="rtTriangl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2514600"/>
            <a:ext cx="2133360" cy="167652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4876920"/>
            <a:ext cx="3276720" cy="1447560"/>
          </a:xfrm>
          <a:prstGeom prst="triangle">
            <a:avLst>
              <a:gd name="adj" fmla="val 7156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25146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29400" y="3809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76920" y="4876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6019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4267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3276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72200" y="3276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4267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5562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64911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0440" y="255600"/>
            <a:ext cx="800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:  Students will find the area of a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2:  Workbook page 149 all and 1-3 on 15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9:22:37Z</dcterms:created>
  <dc:creator>ccps</dc:creator>
  <dc:description/>
  <dc:language>en-US</dc:language>
  <cp:lastModifiedBy>ccps</cp:lastModifiedBy>
  <dcterms:modified xsi:type="dcterms:W3CDTF">2010-02-24T19:22:59Z</dcterms:modified>
  <cp:revision>1</cp:revision>
  <dc:subject/>
  <dc:title>Find the perimeter and area</dc:title>
</cp:coreProperties>
</file>